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5B2-55AA-4768-9D7F-4CB05B32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9FA-7449-4DE4-BE9D-4CCDE613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2E7-593A-4652-98FA-1C504284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7892-15BB-4F6A-8339-94F98340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6EA-5944-4DB7-B34E-70B72534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AB8-B207-4EEF-A68D-A4D9597E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27E-B554-4DD5-A741-E5EF2CF9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5C1-690D-4DB4-B303-38628A34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C4B-EDC5-46CE-BFED-D7B4507F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CC1-74E5-40D0-B6BC-D9D3959B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341-5D40-4F87-AA32-85B1152D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9E7-62CB-4F1B-8EC7-DE30DAD0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DF95-5869-4527-9D50-30FA6656B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uman" TargetMode="External"/><Relationship Id="rId2" Type="http://schemas.openxmlformats.org/officeDocument/2006/relationships/hyperlink" Target="http://en.wikipedia.org/wiki/Earth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babies will be born during this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in a 50 minute lesso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in a 50 minute lesso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000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3362400" cy="4924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484360" y="1341360"/>
            <a:ext cx="3362400" cy="492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24000" y="2349360"/>
            <a:ext cx="2900160" cy="4248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067280" y="1700280"/>
            <a:ext cx="2468520" cy="3614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227640" y="1557360"/>
            <a:ext cx="1828800" cy="2678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348000" y="6381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m even less intelligent than G.W.B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there in the world at the mo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how many you think in the back of  your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incr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population also increase at 240 per min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es –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 –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incr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ies are born at about 240 per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people dying every minute must be __________ that number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relating to population incr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 number of people on the Earth continue to rise indefini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roblems with having loads of people on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d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r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34936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a list of the effect that the growth of our population has had on resources, land and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w questions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a world wide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ews.bbc.co.uk/1/hi/world/europe/4768644.s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people have lots of bab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nn.com/2006/HEALTH/parenting/05/08/mothers.index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people in different countries try to limit the number of babies born per fami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galtoninstitute.org.uk/Newsletters/GINL9105/Third_World_Aid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need an average of 2.1 babies per family WORLDWIDE to maintain a stable population – how are we going to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there in the world at the mo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92360" y="1609560"/>
            <a:ext cx="604836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there in the world at the mo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otal number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uman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alive on the plane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art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at a given time. In early 2006, the world population reached 6.5 bill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st watch and learn…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3:55:07Z</dcterms:created>
  <dc:creator>sthobbsc</dc:creator>
  <dc:description/>
  <dc:language>en-US</dc:language>
  <cp:lastModifiedBy>sthobbsc</cp:lastModifiedBy>
  <dcterms:modified xsi:type="dcterms:W3CDTF">2007-01-04T14:04:33Z</dcterms:modified>
  <cp:revision>5</cp:revision>
  <dc:subject/>
  <dc:title>How many babies will be born during this lesson?</dc:title>
</cp:coreProperties>
</file>